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2F07-4E86-4683-AA41-781EBB0E5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E745-2251-4A28-B402-1579E4AF1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indianapublicmedia.org/amomentofscience/the-truth-about-phototropis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C881-0F12-41D9-A717-FC1590D06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6189-1BD3-40AF-AF86-48253FEC7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iscovermagazine.com/2003/jan/botany#.Ua6dzBzsSj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 plant on right genetically engineered to produce more cytokin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1DE6-AAFE-4F43-A60C-B0308EAA7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3312-0C0C-4794-A01E-4EBB89B56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sci.ohio-state.edu/~plantbio/osu_pcmb/pcmb_lab_resources/pcmb101_activities/hormones/plnt_grth_hrmns_fruit_rip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06CE-9E2A-4E28-ADBA-50B156FCB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vironmentplants.blogspot.c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4FA2-C035-49AA-B36E-73DCA6366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163.16.28.248/bio/activelearner/36/ch36c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F37F-C80B-4ED7-BCCE-A5296FD86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reparetobeamazed.blogspot.ca/2011_03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BA23-0E42-4D00-A1AD-B854137ED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en.wikipedia.org/wiki/Thigmotrop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C86D-4844-4D79-9B4E-585BB1227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1E26-9858-4526-886C-DF5A5B3D5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umblr.com/tagged/auxins?language=fr_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0C46-CE0E-4B2E-A86C-AF3C7C91E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62AA-9B89-43BF-BEFC-6759334ED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5e.plantphys.net/article.php?ch=0&amp;id=3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EEE3-0B38-4CB6-9F8F-FADF9866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A16D-259D-464C-9786-6330E42A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31EA-85AA-496C-B712-FCA3B1BB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7FD4-FC26-4A82-AC89-3B741677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1074-8C0E-4B6F-AFDA-531D4B45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EB3A-3466-44BF-89BB-74B9284F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196-B7A4-434D-95FE-658CE11A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F785-91A6-445C-9F2D-227531AD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69C7-86CC-4CCD-B86C-83ECB3F1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921F-4459-4C99-960B-FF43B4F7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A03-9F25-4ECC-B532-F6916CA1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BF18-8E87-48E5-9ED4-888883CB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AF1F-3B0B-4037-84EE-66D1D7C20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rol of Plant Growth &amp;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kin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growing tissues such as meristems, young leaves, growing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cell 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ayed on mushrooms &amp; lettuce to prevent spo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bot_tobacco"/>
          <p:cNvPicPr/>
          <p:nvPr/>
        </p:nvPicPr>
        <p:blipFill>
          <a:blip r:embed="rId1"/>
          <a:stretch/>
        </p:blipFill>
        <p:spPr>
          <a:xfrm>
            <a:off x="3127320" y="609480"/>
            <a:ext cx="2887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yl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that is produced at various stages of plant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stress hormon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timulates fruit ripening, and many other developmental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ylene levels controlled so that fruit is ripe when sold at the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fruit_ripe"/>
          <p:cNvPicPr/>
          <p:nvPr/>
        </p:nvPicPr>
        <p:blipFill>
          <a:blip r:embed="rId1"/>
          <a:stretch/>
        </p:blipFill>
        <p:spPr>
          <a:xfrm>
            <a:off x="685800" y="844560"/>
            <a:ext cx="77724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cisic Acid (AB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its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s dormancy in seeds and leaf b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s rise in response to temperature &amp; light changes (e.g., seasonal ch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used on plants that are being shi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the growth of a plant in response to a stim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2081938105_3cb639bea5"/>
          <p:cNvPicPr/>
          <p:nvPr/>
        </p:nvPicPr>
        <p:blipFill>
          <a:blip r:embed="rId1"/>
          <a:stretch/>
        </p:blipFill>
        <p:spPr>
          <a:xfrm>
            <a:off x="1893960" y="3124080"/>
            <a:ext cx="528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h36c2"/>
          <p:cNvPicPr/>
          <p:nvPr/>
        </p:nvPicPr>
        <p:blipFill>
          <a:blip r:embed="rId1"/>
          <a:stretch/>
        </p:blipFill>
        <p:spPr>
          <a:xfrm>
            <a:off x="2087640" y="1981080"/>
            <a:ext cx="4967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i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0038195-Gravitropism_(Geotropism)-SPL"/>
          <p:cNvPicPr/>
          <p:nvPr/>
        </p:nvPicPr>
        <p:blipFill>
          <a:blip r:embed="rId1"/>
          <a:stretch/>
        </p:blipFill>
        <p:spPr>
          <a:xfrm>
            <a:off x="1606680" y="1981080"/>
            <a:ext cx="592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gmo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220px-Brunnichia_ovata_"/>
          <p:cNvPicPr/>
          <p:nvPr/>
        </p:nvPicPr>
        <p:blipFill>
          <a:blip r:embed="rId1"/>
          <a:stretch/>
        </p:blipFill>
        <p:spPr>
          <a:xfrm>
            <a:off x="2449440" y="1981080"/>
            <a:ext cx="424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Growth Reg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x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cell elon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on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k sid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using phototrop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primarily in shoot apical meristem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min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tumblr_m3lh4aTFK61rvu0g4o1_250"/>
          <p:cNvPicPr/>
          <p:nvPr/>
        </p:nvPicPr>
        <p:blipFill>
          <a:blip r:embed="rId1"/>
          <a:stretch/>
        </p:blipFill>
        <p:spPr>
          <a:xfrm>
            <a:off x="4168800" y="2133720"/>
            <a:ext cx="459432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bberell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s cell division &amp; elon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s role in flowering &amp; fruit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bberellin spray induces fruit production &amp; elongates fruit stems in gr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wt2002b_s"/>
          <p:cNvPicPr/>
          <p:nvPr/>
        </p:nvPicPr>
        <p:blipFill>
          <a:blip r:embed="rId1"/>
          <a:stretch/>
        </p:blipFill>
        <p:spPr>
          <a:xfrm>
            <a:off x="685800" y="749160"/>
            <a:ext cx="777240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5T01:39:58Z</dcterms:created>
  <dc:creator>rubina khan</dc:creator>
  <dc:description/>
  <dc:language>en-US</dc:language>
  <cp:lastModifiedBy>rubina khan</cp:lastModifiedBy>
  <dcterms:modified xsi:type="dcterms:W3CDTF">2016-11-30T13:32:24Z</dcterms:modified>
  <cp:revision>42</cp:revision>
  <dc:subject/>
  <dc:title>Plant Growth</dc:title>
</cp:coreProperties>
</file>